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2.pct" ContentType="image/x-pict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DB24-F33C-4577-A937-18DD3A33A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/Nurse: http://www.doctortoto.com/images/doctortoto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: http://www.languageinindia.com/april2003/televis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ion: http://www.nextnature.net/?p=22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the patient back som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s them to inside the hospital and outside the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weeds pic: http://www.nextnature.net/?p=22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es by linking them to staff or outdo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or ceiling or curtain or built into the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it to be more engaging, have more services, more potential is t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die (color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ak, flat panel, light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several ske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working on best prot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ing: On/Off; Di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/Radio Controls: Volume, Channel, Station, Closed Captioning, On/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thing Sounds: On/Off, Volume, Sound Selection (Rain, Waterfall, River, Ocean, Cricke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Proj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need to decide how much information/how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in doctor’s view [link!!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951-6270-432A-8675-19BA04C1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9786-5E73-48A5-A260-AAA55326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490-A4EE-498E-80BD-39C373EA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DA71-A98C-4ECD-B53E-77EE92BC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5C85-6F90-4A57-B5C8-85C54A16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A87E-7037-4192-AAB0-7195F826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6DDB-34F9-4DAD-8FB7-77BFA6F5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75F6-A3F2-499C-A9A2-4EB8A1E3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29A5-3196-4104-9AE2-0902DE0A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3276-0374-4DB7-81B3-ABCC3B62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97EC-5C28-4196-86B8-27B2F0A4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BCA-2FC0-46B5-B609-B5D894E9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BD37-7707-412E-B210-BC8D5F76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3C50-A37B-4F83-AD19-8A181CF7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AAE8-7F3C-451B-94F3-C794774B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2288-3512-4798-BCDC-FB5BCE28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6817-08DA-4DBF-9210-AB040BC7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AED-6A38-4ADD-A983-7143B9F0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780-34A6-4654-8892-020DEA5C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3B22-7E63-4E13-AC39-B1DF8F97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F80-0A0D-428F-B6DA-482D3B04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CFA-1147-4A72-94D2-9F6D0129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60E2-DEF3-4E09-A757-77005605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78D1-951B-452C-AA2C-983E9323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FC5C-4CC8-4E04-8735-E174001FE2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0A55-01BF-4F49-BC30-E42E565C2A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proving Patient Experience in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D Treatment Roo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2509920"/>
            <a:ext cx="46479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Garamond"/>
                <a:ea typeface="Osaka"/>
              </a:rPr>
              <a:t>Team M</a:t>
            </a:r>
            <a:r>
              <a:rPr b="0" i="1" lang="en-US" sz="3200" spc="-1" strike="noStrike">
                <a:solidFill>
                  <a:srgbClr val="00cc00"/>
                </a:solidFill>
                <a:latin typeface="Garamond"/>
                <a:ea typeface="Osaka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Osaka"/>
              </a:rPr>
              <a:t>Sushama B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Osaka"/>
              </a:rPr>
              <a:t>Caroline Castell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Osaka"/>
              </a:rPr>
              <a:t>Allyn Rip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Osaka"/>
              </a:rPr>
              <a:t>October 28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90720" y="1219320"/>
            <a:ext cx="6933960" cy="4724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65440" y="1752480"/>
            <a:ext cx="5386320" cy="3619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light weeds"/>
          <p:cNvPicPr/>
          <p:nvPr/>
        </p:nvPicPr>
        <p:blipFill>
          <a:blip r:embed="rId2"/>
          <a:srcRect l="0" t="0" r="0" b="23477"/>
          <a:stretch/>
        </p:blipFill>
        <p:spPr>
          <a:xfrm>
            <a:off x="5651640" y="4265640"/>
            <a:ext cx="1449360" cy="120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909800" y="2119320"/>
            <a:ext cx="1095480" cy="816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93640" y="18558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9200" y="2146320"/>
            <a:ext cx="4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76040" y="380988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981080" y="3505320"/>
            <a:ext cx="1508400" cy="1522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682640" y="32004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N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51480" y="504360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O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rcRect l="0" t="13895" r="39859" b="19988"/>
          <a:stretch/>
        </p:blipFill>
        <p:spPr>
          <a:xfrm rot="19376400">
            <a:off x="4932360" y="4749480"/>
            <a:ext cx="897120" cy="71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281-3956-46C8-A0A1-CE190EBF6E2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Interactive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Dynamic and experient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esponds to external stimuli, movement or patient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corporates sounds, col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Brings nature indo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Lowers patient anx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ositive engag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light weeds"/>
          <p:cNvPicPr/>
          <p:nvPr/>
        </p:nvPicPr>
        <p:blipFill>
          <a:blip r:embed="rId1"/>
          <a:srcRect l="0" t="0" r="0" b="23205"/>
          <a:stretch/>
        </p:blipFill>
        <p:spPr>
          <a:xfrm>
            <a:off x="5105520" y="1239840"/>
            <a:ext cx="2533680" cy="2189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075280" y="3713040"/>
            <a:ext cx="2736720" cy="2281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400040" y="3570120"/>
            <a:ext cx="2867040" cy="247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FF10-009E-4C28-98C8-A06464F2679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the next several week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search materials for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ook at designs used by previous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sign device, software, and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mplemen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11B-FE26-4FD0-8019-97CC87F77B5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Questions or com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FFD-FA31-41BE-8184-30DD3F9A555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3276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5715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320040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676520" y="152280"/>
            <a:ext cx="5943240" cy="5638680"/>
            <a:chOff x="1676520" y="152280"/>
            <a:chExt cx="5943240" cy="5638680"/>
          </a:xfrm>
        </p:grpSpPr>
        <p:sp>
          <p:nvSpPr>
            <p:cNvPr id="95" name=""/>
            <p:cNvSpPr/>
            <p:nvPr/>
          </p:nvSpPr>
          <p:spPr>
            <a:xfrm>
              <a:off x="1676520" y="152280"/>
              <a:ext cx="5943240" cy="56386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46080" y="1326960"/>
              <a:ext cx="3922560" cy="3289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rcRect l="15396" t="0" r="6411" b="0"/>
          <a:stretch/>
        </p:blipFill>
        <p:spPr>
          <a:xfrm>
            <a:off x="3200400" y="1828800"/>
            <a:ext cx="2971800" cy="2182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252-50EF-41FE-B531-0F8C97F00AE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Patient “Lifelin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3280" y="1981080"/>
            <a:ext cx="404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asic Remot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Nurse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Light on/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mited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mproper 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ninspir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DD6-0507-420F-B3B1-0135095C8F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spirations for our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87480" y="1371600"/>
            <a:ext cx="2227320" cy="2460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2586240" cy="1908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905120" y="3930480"/>
            <a:ext cx="2536560" cy="1708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952880" y="3943440"/>
            <a:ext cx="312444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-frien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al 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chscree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ble at bed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20F-0ADA-4845-A058-A56B3DE8E27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lution: </a:t>
            </a: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M</a:t>
            </a:r>
            <a:r>
              <a:rPr b="0" i="1" lang="en-US" sz="4400" spc="-1" strike="noStrike">
                <a:solidFill>
                  <a:srgbClr val="00cc00"/>
                </a:solidFill>
                <a:latin typeface="Arial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3171960" cy="453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727360" y="239868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1676520"/>
            <a:ext cx="3886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held bedside remo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-friendly buttons/touch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s to wall by retractable cord or a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ful, lightwe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multipl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p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patient through information and positive eng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s to screensaver when not i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9059-A610-4348-9F40-64A66CEF39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62520" y="1066680"/>
            <a:ext cx="4647960" cy="4267440"/>
          </a:xfrm>
          <a:prstGeom prst="roundRect">
            <a:avLst>
              <a:gd name="adj" fmla="val 16667"/>
            </a:avLst>
          </a:prstGeom>
          <a:solidFill>
            <a:srgbClr val="a6dd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in 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y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y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y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urse Call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3809880" cy="33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83C8-8BD1-4DC4-BEA5-568AD162FA1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8640" y="1519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MY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1268280"/>
            <a:ext cx="5257800" cy="4599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67280" y="2397240"/>
            <a:ext cx="3429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ive patients control over his/her immediate environ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vide better lighting op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mote relaxation with “soothing sounds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reate engaging experience with interactive proje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F8F-48A4-4DA2-A832-8320D920CF5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Y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502240" cy="4813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19920" y="1143000"/>
            <a:ext cx="2743200" cy="2428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19920" y="3962520"/>
            <a:ext cx="2895480" cy="33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Uses RFID technology to identify doctors and nurses as soon as they enter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stablishes connection and builds relationship with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mproves patient satisf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357-A9AE-4C5C-87B6-E60C3844C9A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MY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7680" y="1143000"/>
            <a:ext cx="5121000" cy="4479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943600" y="3048120"/>
            <a:ext cx="27432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pow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with existing system to relay status of orders and approximate wai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s patients understand “What am I waiting for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19920" y="1143000"/>
            <a:ext cx="2666880" cy="1736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4190760" y="1752480"/>
            <a:ext cx="19047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1728-9D25-45D2-BE9E-E592D54D178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8:45:42Z</dcterms:created>
  <dc:creator>Caroline Castellino</dc:creator>
  <dc:description/>
  <dc:language>en-US</dc:language>
  <cp:lastModifiedBy>Office 2004 Test Drive User</cp:lastModifiedBy>
  <dcterms:modified xsi:type="dcterms:W3CDTF">2008-10-28T19:34:43Z</dcterms:modified>
  <cp:revision>30</cp:revision>
  <dc:subject/>
  <dc:title>Slide 1</dc:title>
</cp:coreProperties>
</file>